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A852BB-7DCC-46DD-91AA-56B28AE5B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4521A6-FF25-4587-A0D9-F6E0ED5C3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A271A6-14B0-44E2-BA82-B00757A1A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059BDF-3361-4C52-89F3-1DD7570F00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7E2F3-9095-4FDF-8C58-E912DFF01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C41D7-CDF1-4909-81FB-AFB5524BD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F5EE1-E673-4F81-844A-826751C3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6CA44-0E4F-43FD-91BC-F4AD41A82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BEAB3-3DD2-4645-A6A1-31EAF6532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EE92C-7B6C-4A32-AE9A-CB9513DFE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1F363-3CAD-463A-AA85-1CAA61518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8407D-4489-471A-A5A8-C6DE6722C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AF85A-A531-486A-8C5C-86E338D26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A69CF-329C-435C-A5A4-821818BA5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DE418-96FC-4236-AEA6-11A72359F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91AA0-4F9B-4C82-8D7A-D76BBB92A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E4DD2-B75E-4171-92BD-B1DB825EC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1CE5F4-A3E7-4ECF-9402-A2A596384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A426A7-49E6-4835-936E-0FE840CBF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C19721-6304-4A6F-8A8F-F89810F6A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6EA4C-4C99-417C-ADBC-DFBE6BD65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C9462-3D32-4EA6-859D-8EA6AFF1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B65953-3DE4-434E-9720-B51705296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FC768B-6199-4B02-8EF5-BFC6663C0A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2A82-5928-4A73-BDF8-02DF299822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7"/>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8"/>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30"/>
          <p:cNvGrpSpPr/>
          <p:nvPr/>
        </p:nvGrpSpPr>
        <p:grpSpPr>
          <a:xfrm>
            <a:off x="228600" y="457200"/>
            <a:ext cx="1246320" cy="1371600"/>
            <a:chOff x="228600" y="457200"/>
            <a:chExt cx="1246320" cy="1371600"/>
          </a:xfrm>
        </p:grpSpPr>
        <p:sp>
          <p:nvSpPr>
            <p:cNvPr id="7" name="Rectangle 10"/>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1"/>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2"/>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3"/>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4"/>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Rectangle 15"/>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Rectangle 16"/>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Rectangle 17"/>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Rectangle 18"/>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Rectangle 19"/>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Rectangle 20"/>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Rectangle 21"/>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Rectangle 22"/>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8"/>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34"/>
          <p:cNvGrpSpPr/>
          <p:nvPr/>
        </p:nvGrpSpPr>
        <p:grpSpPr>
          <a:xfrm>
            <a:off x="228600" y="1447920"/>
            <a:ext cx="2286000" cy="2514600"/>
            <a:chOff x="228600" y="1447920"/>
            <a:chExt cx="2286000" cy="2514600"/>
          </a:xfrm>
        </p:grpSpPr>
        <p:sp>
          <p:nvSpPr>
            <p:cNvPr id="59" name="Rectangle 10"/>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Rectangle 11"/>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Rectangle 12"/>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Rectangle 13"/>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Rectangle 14"/>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15"/>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Rectangle 16"/>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Rectangle 17"/>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Rectangle 18"/>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Rectangle 19"/>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Rectangle 20"/>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21"/>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Rectangle 22"/>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Line 28"/>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B466-AD7D-496D-9D97-D30BDF3B4E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28960" y="1642680"/>
            <a:ext cx="5867280" cy="427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ffffff"/>
                </a:solidFill>
                <a:latin typeface="Arial"/>
              </a:rPr>
              <a:t>Interviewing Children</a:t>
            </a:r>
            <a:br>
              <a:rPr sz="4500"/>
            </a:br>
            <a:r>
              <a:rPr b="0" lang="en-US" sz="4500" spc="-1" strike="noStrike">
                <a:solidFill>
                  <a:srgbClr val="ffffff"/>
                </a:solidFill>
                <a:latin typeface="Arial"/>
              </a:rPr>
              <a:t>Computer Forensics</a:t>
            </a:r>
            <a:br>
              <a:rPr sz="4500"/>
            </a:br>
            <a:br>
              <a:rPr sz="4500"/>
            </a:br>
            <a:r>
              <a:rPr b="0" lang="en-US" sz="3200" spc="-1" strike="noStrike">
                <a:solidFill>
                  <a:srgbClr val="ffffff"/>
                </a:solidFill>
                <a:latin typeface="Arial"/>
              </a:rPr>
              <a:t>School Law Lesson 12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pecial Processes for Interviewing Children/Teen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1: Develop rapport with stud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2: Developmental screening: inside/outside; first/last; over/under; on top/undernea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3: Competency check: establish that the child knows the difference between a truth and a lie, knows the consequences of a lie, and secure agreement that he/she will tell the tr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4: Establish ground rules. It’s OK to say, “I don’t know”; it’s not OK to guess; it’s OK to correct me if I make a mistake; I may ask a question over and over so it’s OK to repeat the same answer; you can answer a question by drawing a picture or writing it dow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Address the topic of concern. If they don’t know why they’re there to talk, th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5: Addressing topic of concern, cont)</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bout a teacher/employee not accused: Why do you like him/her?</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don’t like about the (not accused) Ms. Smith?</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like about the (accused) Ms. Jones?</a:t>
            </a:r>
            <a:endParaRPr b="0" lang="en-US" sz="2400" spc="-1" strike="noStrike">
              <a:solidFill>
                <a:srgbClr val="ffffff"/>
              </a:solidFill>
              <a:latin typeface="Arial"/>
            </a:endParaRPr>
          </a:p>
          <a:p>
            <a:pPr marL="528120" indent="-528120">
              <a:spcBef>
                <a:spcPts val="601"/>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l me something you don’t like about the (accused) Ms. Jones?</a:t>
            </a:r>
            <a:endParaRPr b="0" lang="en-US" sz="2400" spc="-1" strike="noStrike">
              <a:solidFill>
                <a:srgbClr val="ffffff"/>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sort: Be direct about asking about the iss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3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continued: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funnel technique: broader questions then funnel them to the who, what, where, why—don’t say, “Did he touch yo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he/she do? Who was there? How was that for you? Where did it happen? When (general time frame, not clock when)? And then what happe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5, continue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ive students leading answers, like “did he touch you”; instead say, “what did he do?”</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sing pronouns—use specific names so as to avoid confus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use the child’s language in inter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cont.</a:t>
            </a:r>
            <a:endParaRPr b="0" lang="en-US" sz="3900" spc="-1" strike="noStrike">
              <a:solidFill>
                <a:srgbClr val="ffffff"/>
              </a:solidFill>
              <a:latin typeface="Arial"/>
            </a:endParaRPr>
          </a:p>
        </p:txBody>
      </p:sp>
      <p:sp>
        <p:nvSpPr>
          <p:cNvPr id="14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6: Closure. Ask if he/she has any questions. Be honest “we don’t know yet what will happen”. Ask if there is anything else you want to talk about. Tell student we may need to talk aga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global and screen for “red flag” behaviors “Have you ever been in a teacher’s car? Have you ever emailed a teacher? Has a teacher ever emailed you? Texted you? Have you ever been alone with a teacher? Has a teacher ever given you a gift? Have you ever been to a teacher’s house? Has a teacher ever hugged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being therapeutic. You must resist value judgments like “that must have been terrible for you!”. Instead, “That sounds uncomfortable, how did it feel for yo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sking for permission. Not “Can we talk about how he touched you?” Instead, “Let’s talk about the time he touched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viewing children, general</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make any promises of confidentiality, removal of teacher, or extra homework/free/play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tate: “This is hard to talk abou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with exact times and number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asking, “Why didn’t you tell us earli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hallenge anything vague about who did/said what to wh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ink about ALL the types of technology that might be usefu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when technology might be useful even when it is not the primary allega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phone logs, texts, computers, thumb drives, laptops, internet access, email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op, Think, Reflect</a:t>
            </a:r>
            <a:endParaRPr b="0" lang="en-US" sz="3900" spc="-1" strike="noStrike">
              <a:solidFill>
                <a:srgbClr val="ffffff"/>
              </a:solidFill>
              <a:latin typeface="Arial"/>
            </a:endParaRPr>
          </a:p>
        </p:txBody>
      </p:sp>
      <p:sp>
        <p:nvSpPr>
          <p:cNvPr id="116" name="PlaceHolder 2"/>
          <p:cNvSpPr>
            <a:spLocks noGrp="1"/>
          </p:cNvSpPr>
          <p:nvPr>
            <p:ph/>
          </p:nvPr>
        </p:nvSpPr>
        <p:spPr>
          <a:xfrm>
            <a:off x="1692000" y="1484280"/>
            <a:ext cx="7010280" cy="5122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llegations require thinking of a future worst-case scenario which could happen if you do not investigat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could end up on the 5 o’clock new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could impact an arbitration or lawsu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vestigation decisions WILL impact actions you can or cannot take in the fu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43040" y="285840"/>
            <a:ext cx="7043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2" name="PlaceHolder 2"/>
          <p:cNvSpPr>
            <a:spLocks noGrp="1"/>
          </p:cNvSpPr>
          <p:nvPr>
            <p:ph/>
          </p:nvPr>
        </p:nvSpPr>
        <p:spPr>
          <a:xfrm>
            <a:off x="1642680" y="1214280"/>
            <a:ext cx="7010280" cy="4114800"/>
          </a:xfrm>
          <a:prstGeom prst="rect">
            <a:avLst/>
          </a:prstGeom>
          <a:noFill/>
          <a:ln w="0">
            <a:noFill/>
          </a:ln>
        </p:spPr>
        <p:txBody>
          <a:bodyPr anchor="t">
            <a:normAutofit fontScale="90000"/>
          </a:bodyPr>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ly state, and if you can in writing: “I am directing you not to delete anything on the computer, including history internet files.</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little notice for when you’re coming to pick up the technology</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follow “chain of evidence” protocols</a:t>
            </a:r>
            <a:endParaRPr b="0" lang="en-US" sz="2800" spc="-1" strike="noStrike">
              <a:solidFill>
                <a:srgbClr val="ffffff"/>
              </a:solidFill>
              <a:latin typeface="Arial"/>
            </a:endParaRPr>
          </a:p>
          <a:p>
            <a:pPr marL="308520" indent="-30852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initial look first and then negotiate with the employee how deep he/she wants you to look if he doesn’t r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43040" y="285840"/>
            <a:ext cx="7043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Forensics</a:t>
            </a:r>
            <a:endParaRPr b="0" lang="en-US" sz="3900" spc="-1" strike="noStrike">
              <a:solidFill>
                <a:srgbClr val="ffffff"/>
              </a:solidFill>
              <a:latin typeface="Arial"/>
            </a:endParaRPr>
          </a:p>
        </p:txBody>
      </p:sp>
      <p:sp>
        <p:nvSpPr>
          <p:cNvPr id="154" name="PlaceHolder 2"/>
          <p:cNvSpPr>
            <a:spLocks noGrp="1"/>
          </p:cNvSpPr>
          <p:nvPr>
            <p:ph/>
          </p:nvPr>
        </p:nvSpPr>
        <p:spPr>
          <a:xfrm>
            <a:off x="1642680" y="185724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have your technology department “have a look” unless they are trained at a high level for forensics (only about 6 individuals in Spokane ar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analysis is best, though it can be expensiv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CompuSearch is the Spokane company to use: 509-443-9293 (but consult with legal counsel fir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Questions to Ask Employee</a:t>
            </a:r>
            <a:endParaRPr b="0" lang="en-US" sz="3900" spc="-1" strike="noStrike">
              <a:solidFill>
                <a:srgbClr val="ffffff"/>
              </a:solidFill>
              <a:latin typeface="Arial"/>
            </a:endParaRPr>
          </a:p>
        </p:txBody>
      </p:sp>
      <p:sp>
        <p:nvSpPr>
          <p:cNvPr id="156" name=""/>
          <p:cNvSpPr txBox="1"/>
          <p:nvPr/>
        </p:nvSpPr>
        <p:spPr>
          <a:xfrm>
            <a:off x="1714320" y="1428840"/>
            <a:ext cx="7010280" cy="50004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so many texts to stud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phone calls at 10p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 visiting ___ internet sit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re you working if you’re using the computer that muc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d you take your laptop hom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idn’t visit that site, who did and bring him/her in so I can verify your version of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uter I</a:t>
            </a:r>
            <a:endParaRPr b="0" lang="en-US" sz="3900" spc="-1" strike="noStrike">
              <a:solidFill>
                <a:srgbClr val="ffffff"/>
              </a:solidFill>
              <a:latin typeface="Arial"/>
            </a:endParaRPr>
          </a:p>
        </p:txBody>
      </p:sp>
      <p:sp>
        <p:nvSpPr>
          <p:cNvPr id="15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op, Think, Reflect</a:t>
            </a:r>
            <a:endParaRPr b="0" lang="en-US" sz="3900" spc="-1" strike="noStrike">
              <a:solidFill>
                <a:srgbClr val="ffffff"/>
              </a:solidFill>
              <a:latin typeface="Arial"/>
            </a:endParaRPr>
          </a:p>
        </p:txBody>
      </p:sp>
      <p:sp>
        <p:nvSpPr>
          <p:cNvPr id="11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SOME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 RIGHT 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it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457200"/>
            <a:ext cx="701028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What Happens When You Don’t Do the Right Thing?</a:t>
            </a:r>
            <a:endParaRPr b="0" lang="en-US" sz="3500" spc="-1" strike="noStrike">
              <a:solidFill>
                <a:srgbClr val="ffffff"/>
              </a:solidFill>
              <a:latin typeface="Arial"/>
            </a:endParaRPr>
          </a:p>
        </p:txBody>
      </p:sp>
      <p:sp>
        <p:nvSpPr>
          <p:cNvPr id="120" name="PlaceHolder 2"/>
          <p:cNvSpPr>
            <a:spLocks noGrp="1"/>
          </p:cNvSpPr>
          <p:nvPr>
            <p:ph/>
          </p:nvPr>
        </p:nvSpPr>
        <p:spPr>
          <a:xfrm>
            <a:off x="1692000" y="1413000"/>
            <a:ext cx="7010280" cy="4876560"/>
          </a:xfrm>
          <a:prstGeom prst="rect">
            <a:avLst/>
          </a:prstGeom>
          <a:noFill/>
          <a:ln w="0">
            <a:noFill/>
          </a:ln>
        </p:spPr>
        <p:txBody>
          <a:bodyPr anchor="t">
            <a:normAutofit/>
          </a:bodyPr>
          <a:p>
            <a:pPr marL="343080" indent="-343080">
              <a:lnSpc>
                <a:spcPct val="90000"/>
              </a:lnSpc>
              <a:spcBef>
                <a:spcPts val="5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udent reported to her parents that Mr. Smith hugged her “very tight” after school one day. The parents call you. You listen to the parents and then talk to Mr. White, who says he never hugged the girl and maybe she perceived it wrong because he just patted her on the back. The parents said that the classroom was empty, so you figure it’s his word against the student’s and you won’t be able to prove anything. You tell the parents you can’t substantiate the allegation, so you do nothing else. Three months later Mr. Smith is accused of molestation, and the girl comes forward to say that she and also her friend were hugged by Mr. Smith. Your supervisor asks you why you never talked to the girl herself? The local paper asks the same ques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6840"/>
            <a:ext cx="701028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What Happens When You Don’t Do the Right Thing?</a:t>
            </a:r>
            <a:endParaRPr b="0" lang="en-US" sz="3500" spc="-1" strike="noStrike">
              <a:solidFill>
                <a:srgbClr val="ffffff"/>
              </a:solidFill>
              <a:latin typeface="Arial"/>
            </a:endParaRPr>
          </a:p>
        </p:txBody>
      </p:sp>
      <p:sp>
        <p:nvSpPr>
          <p:cNvPr id="122" name="PlaceHolder 2"/>
          <p:cNvSpPr>
            <a:spLocks noGrp="1"/>
          </p:cNvSpPr>
          <p:nvPr>
            <p:ph/>
          </p:nvPr>
        </p:nvSpPr>
        <p:spPr>
          <a:xfrm>
            <a:off x="1692000" y="1557000"/>
            <a:ext cx="7010280" cy="4754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7-year old teacher tells you that when she went to your high school, “everyone” was saying that Mr. Jones was having a sexual relationship with Susan Marks when Susan was a senior. You figure it was almost 20 years ago, you wouldn’t be able to find the student now, and this isn’t even eye witness evidence. You don’t investigate, and another girl turns in Mr. Jones for sexual misconduct. Turns out, you could have “googled” her name and found her immediately. The local news did. And she told them she had been victimized as well, but had been too afraid she wouldn’t be belie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member: The 7 Tests</a:t>
            </a:r>
            <a:endParaRPr b="0" lang="en-US" sz="3900" spc="-1" strike="noStrike">
              <a:solidFill>
                <a:srgbClr val="ffffff"/>
              </a:solidFill>
              <a:latin typeface="Arial"/>
            </a:endParaRPr>
          </a:p>
        </p:txBody>
      </p:sp>
      <p:sp>
        <p:nvSpPr>
          <p:cNvPr id="124" name="PlaceHolder 2"/>
          <p:cNvSpPr>
            <a:spLocks noGrp="1"/>
          </p:cNvSpPr>
          <p:nvPr>
            <p:ph/>
          </p:nvPr>
        </p:nvSpPr>
        <p:spPr>
          <a:xfrm>
            <a:off x="1692000" y="1484280"/>
            <a:ext cx="7010280" cy="511344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id the employee know the action would result in discipline?</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able rule of order—Is the rule reason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vestigation—Did the employer make a true and thorough effort to determine the truth?</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ir Investigation—Was the investigation conducted fairly and objectively?</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of—Was their sufficient evidenc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al Treatment—Are penalties given even-handedly without discrimination?</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alty—Was the consequence related to the seriousness of the offense and employee’s past work reco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orking with Law Enforcement</a:t>
            </a:r>
            <a:endParaRPr b="0" lang="en-US" sz="3900" spc="-1" strike="noStrike">
              <a:solidFill>
                <a:srgbClr val="ffffff"/>
              </a:solidFill>
              <a:latin typeface="Arial"/>
            </a:endParaRPr>
          </a:p>
        </p:txBody>
      </p:sp>
      <p:sp>
        <p:nvSpPr>
          <p:cNvPr id="126" name="PlaceHolder 2"/>
          <p:cNvSpPr>
            <a:spLocks noGrp="1"/>
          </p:cNvSpPr>
          <p:nvPr>
            <p:ph/>
          </p:nvPr>
        </p:nvSpPr>
        <p:spPr>
          <a:xfrm>
            <a:off x="1618920" y="1773360"/>
            <a:ext cx="7010280" cy="45432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security officers are not the same as law enforcement—non-administrative employees should not investigate other employees in order to maintain the appearance of “neutrality”, not to mention workplace harmon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work WITH law enforcement, not AFTER them, because the outcome of the legal case could take months, and might not help YOUR employment c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Questions to Ask Your Police Detectives BEFORE a Big Case</a:t>
            </a:r>
            <a:endParaRPr b="0" lang="en-US" sz="3500" spc="-1" strike="noStrike">
              <a:solidFill>
                <a:srgbClr val="ffffff"/>
              </a:solidFill>
              <a:latin typeface="Arial"/>
            </a:endParaRPr>
          </a:p>
        </p:txBody>
      </p:sp>
      <p:sp>
        <p:nvSpPr>
          <p:cNvPr id="128" name="PlaceHolder 2"/>
          <p:cNvSpPr>
            <a:spLocks noGrp="1"/>
          </p:cNvSpPr>
          <p:nvPr>
            <p:ph/>
          </p:nvPr>
        </p:nvSpPr>
        <p:spPr>
          <a:xfrm>
            <a:off x="1547640" y="1989000"/>
            <a:ext cx="7010640" cy="5067360"/>
          </a:xfrm>
          <a:prstGeom prst="rect">
            <a:avLst/>
          </a:prstGeom>
          <a:noFill/>
          <a:ln w="0">
            <a:noFill/>
          </a:ln>
        </p:spPr>
        <p:txBody>
          <a:bodyPr anchor="t">
            <a:normAutofit/>
          </a:bodyPr>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agree that we will interview witnesses together?</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agree that we notify you and you notify us so that we don’t double the work?</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work on the timing of the arrest to allow me to get a resignation agreement or take the appropriate employment action?</a:t>
            </a:r>
            <a:endParaRPr b="0" lang="en-US" sz="2600" spc="-1" strike="noStrike">
              <a:solidFill>
                <a:srgbClr val="ffffff"/>
              </a:solidFill>
              <a:latin typeface="Arial"/>
            </a:endParaRPr>
          </a:p>
          <a:p>
            <a:pPr marL="343080" indent="-343080">
              <a:lnSpc>
                <a:spcPct val="90000"/>
              </a:lnSpc>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we get your investigative materials un-redacted as a “cooperating agency” when you send them to the prosecut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nything You Collect or Write is Likely to Be a Public Record</a:t>
            </a:r>
            <a:endParaRPr b="0" lang="en-US" sz="3900" spc="-1" strike="noStrike">
              <a:solidFill>
                <a:srgbClr val="ffffff"/>
              </a:solidFill>
              <a:latin typeface="Arial"/>
            </a:endParaRPr>
          </a:p>
        </p:txBody>
      </p:sp>
      <p:sp>
        <p:nvSpPr>
          <p:cNvPr id="130"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berno v. Spokane County: Excessive emails were of public concern, but the content was no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could be a reason not to release records and IS a reason to redact certain detail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ors hired by the District’s attorney’s to protect against possible litigation can provide information to the District that is NOT a public record (Spokane School District v. Cowles Publishing)…but think about the implications before doing so in an employee misconduct cas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5T17:27:53Z</dcterms:created>
  <dc:creator>setup</dc:creator>
  <dc:description/>
  <dc:language>en-US</dc:language>
  <cp:lastModifiedBy>Staci Vesneske</cp:lastModifiedBy>
  <dcterms:modified xsi:type="dcterms:W3CDTF">2009-06-20T22:06:51Z</dcterms:modified>
  <cp:revision>34</cp:revision>
  <dc:subject/>
  <dc:title>Investigating and Disciplining Employee Miscondu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